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2A1-215D-420D-B36A-5561F493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389-B218-4D4A-AF0D-54ABAD8D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F51-EE2E-41C1-B98F-85374A4B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ADD-6CD0-407A-923A-11A4DAEC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CD33-755C-4351-AED7-327171C0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63C8-89EA-4579-8FCD-5A4614B9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498B-8208-438F-B13D-45E63FD6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AF45-E264-4EB9-B172-583FBBF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DF77-C46C-4927-BCEA-001CBD47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8478-0C66-418D-A01B-0548E6D1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C3DA-F807-456D-B101-2414FAD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35D-788A-469F-ACE3-0408E2B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2D54-62F3-4664-B9B1-EED790B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F7D-1E92-427B-AE87-267E23C3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BC79-70A2-4F3E-9904-A97EE246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6E08-F7C2-43CE-A0B7-D1C59B13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98E9-AE29-440F-A0D2-EBD434B7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72C-BE22-420D-9093-8EDAEAE6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45D-217E-4B48-ABBC-1AA4A378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EFD-CBA5-4C94-9DD7-0CC40515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077-838C-488A-980F-C74726E6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F55-44CC-4D2D-9C77-1B24A72C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F37-301E-44E9-9C05-3E427442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D16-07C6-48A1-91BD-CB4461A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B2AD-1FCF-43E6-9928-7A0407A0BA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0EFD-D856-48B1-99AA-15483A84DA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ntroduzione storica alla filosofia della scienza. Alla ricerca della certe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lfredo Mar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tà di Valladolid (Spag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rcos@fyl.uva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lung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pprofondimento della separazione fra: il processo della scoperta con quello della giustif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 partire dagli anni sessanta, il dominio della giustificazione è stato intaccato dal tarlo dell’irrazionale: non si può neppure affermare con piena certezza la falsità di una te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ermina ogni speranza di salvare la razionalità all’interno della prospettiva logicista, algoritmica e della precedenza del criterio di cert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mergono anche delle tracce su come affrontare la questione: fallibilismo popperiano, connessione che Kuhn tratteggia tra le forme dell’organizzazione sociale e lo sviluppo della sc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volta verso un altro tipo di razionalità, più flessibile, più pratica. Comincia un’autentica liberazione della filosofia della scienza, che si svincola dalla gabbia del contesto di giustif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lung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Qui propongo un programma di radice aristotelica per la filosofia della scienza attuale. Credo che presenti alcuni vantaggi che spero si rendano evidenti nel prosieguo del cic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Il vantaggio, infine, della filosofia pratica aristotelica è la sua forza integratrice: permette di integrare la scienza nel complesso della vita umana (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ars vivend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), integrando aspetti razionali ed emotivi, aspetti etici e tecnici, razionalità dei fini e dei mezzi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Permette di osservare allo stesso tempo i due problemi centrali della filosofia della scienza contemporanea: razionalità e realism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La condizione previa per qualsiasi riforma della filosofia della scienza è un cambio della secolare strategia riduzionista  per quest’altra che potremmo definire integratrice o inclus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bre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opositivism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eceived view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→ Popper → Kuhn → filosofia della scienza post-kuhn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È vero che la filosofia della scienza nasce con il neopositivis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Sì, nel senso sociolog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No, nel senso filosof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Occorre determinare, dunque, in cosa è consistito il progetto neopositivista e quale sia la sua corretta posizione sto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bre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512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cune caratteristiche del neopositivismo: distinzione dei contesti: contesto della guistificazione / contesto della scoperta (Reichenb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etodo di ricostruzione razionale (Carn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zione tra scienza e rag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mpossibilità di una ragion pr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cerca della cer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ricostruzione razionale tende a costituirsi in termini operazionali automatizz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eparazione tra la ricostruzione razionale e produzione della sc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odello di razionalità rigido e ridu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bre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Qual è la posizione storica del programma neopositivi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  <a:ea typeface="Arial"/>
              </a:rPr>
              <a:t>Epilogo della filosofia moderna postkantiana. L’ultima tappa a favore della certezza come massimo valore epistemolog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  <a:ea typeface="Arial"/>
              </a:rPr>
              <a:t>Per riconoscere questo con chiarezza occorre percorrere la versione lunga della storia e lo faremo utilizzando la certezza quale filo conduttore princip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lung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’arco della conoscenza: Platone, Aristotele, Medio 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27640" y="3357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8480" y="3933720"/>
            <a:ext cx="213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a ascen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OP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alisi /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solu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odo deduttiv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7240" y="3979800"/>
            <a:ext cx="222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a di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ieg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si /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posi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odo dedu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653040" y="44038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IUSTIFICAZI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38280" y="62564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no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61760" y="2205000"/>
            <a:ext cx="106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e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lung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’arco della conoscenza: Descartes, Bacon, Newton, Hum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27640" y="3357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48120" y="3933720"/>
            <a:ext cx="205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a ascen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OP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al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odo induttiv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9040" y="3979800"/>
            <a:ext cx="282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a di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iegazione + pred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odo dedu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653040" y="44038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IUSTIFICAZI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38280" y="62564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no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62120" y="2205000"/>
            <a:ext cx="92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lung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Kant: inversione delle note caratteristiche dell’analisi e la sin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88840" y="2852640"/>
          <a:ext cx="7428240" cy="2923920"/>
        </p:xfrm>
        <a:graphic>
          <a:graphicData uri="http://schemas.openxmlformats.org/drawingml/2006/table">
            <a:tbl>
              <a:tblPr/>
              <a:tblGrid>
                <a:gridCol w="2476800"/>
                <a:gridCol w="2474640"/>
                <a:gridCol w="2476800"/>
              </a:tblGrid>
              <a:tr h="560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a K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ov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icurezz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icurezza senza nov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o K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esi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prior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urez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icurezaza senza nov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lung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’arco della conoscenza: empirismo post-kantiano (Herschel, Whew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427640" y="3357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5240" y="393372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a ascen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OP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odo induttivo / ipotet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9040" y="3979800"/>
            <a:ext cx="282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a di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iegazione + pred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al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odo dedu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275960" y="44038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IUSTIFICAZI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38280" y="62564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no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62120" y="220500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g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toria della filosofia della scienza (versione lung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Ultima parte del ottocento e prima metà del novecento: erosione, scetticismo e ri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Erosione del kantismo: nuova fisica, nuove geometrie, darw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iversi pensatori tendono a sfumare la fede nella conoscenza scientifica:epistemologia convenzionalista (Poincaré), fenomenalismo (Mach), strumentalismo (Duhem), tendenze romantiche e psicolog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presa: mutamento effettivo e impressionante delle teorie fisiche all’inizio del secolo scorso, recupero del darwinismo in una nuova sintesi, a seguito della comparsa di una nuova logica matematica come nuovo strumento filoso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1:29:08Z</dcterms:created>
  <dc:creator>Filosofia</dc:creator>
  <dc:description/>
  <dc:language>en-US</dc:language>
  <cp:lastModifiedBy>Filosofia</cp:lastModifiedBy>
  <dcterms:modified xsi:type="dcterms:W3CDTF">2009-08-19T10:32:14Z</dcterms:modified>
  <cp:revision>25</cp:revision>
  <dc:subject/>
  <dc:title>Biocomplejidad</dc:title>
</cp:coreProperties>
</file>