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4C14-E2F0-4480-9284-EDF4FB459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B069-C2F9-4500-928E-18C5A7ECA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63DE-0995-4D41-89E4-39BA093F5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26C9-7EE6-4DF5-B20C-65BBEE8AF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B4C32-4210-458B-80C3-7581F5857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2494D-E2BB-475D-86CD-AAED0C694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591E0-2CE2-4E41-9710-D74A3EB39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D4A58-D4EB-473A-B204-70DBCD188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17412-AC12-4CEF-AF56-6951CB543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0C3E9-07A4-4A0F-AAB7-938D9D240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613C0-8F0C-4023-AEEC-814EE9E2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9714-8946-44A9-B654-19F5893DB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37A67-8C9C-40E0-9924-6564E5EF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4040A-35BF-4BAE-98E6-D41605588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DF00B-8432-4E73-9BF9-FEC210A18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ECB6E-7D93-4523-9981-B17D8EC81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E7615-2AEF-4FC0-87B2-C6C856E4D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5E97-FD6D-4B58-8C7A-7F0F18D91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DA22-5AE3-439D-8767-6C50034E0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741C-3BBB-4924-A049-FCDA37D49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A9B6-5EF7-49BA-BB72-5F9109972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B2D8-73EE-4068-BC3C-8CAA2E62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B204-B72A-4BC7-843E-A971525A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58F1-28B3-4E5E-B20A-622F7037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003E4-16CD-4A64-82B3-9019A9C56EA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ECAE4-7EE0-4E92-A8C2-49F95833B75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Presentazione:</a:t>
            </a:r>
            <a:br>
              <a:rPr sz="4400"/>
            </a:b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La scienza come agire um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Alfredo Mar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iversità di Valladolid (Spag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marcos@fyl.uva.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he cos’è la scienza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scienza come linguagg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filosofia della scienza versa su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oblemi di carattere logico e seman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azionalitá = coerenza lo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ealismo ridotto a problemi semantici relativi al referente dei term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scienza come agire umano, individuale e soc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filosofia della scienza come filosofia dell’agire scientifico, filosofia pratica della scien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tica, politica, creatività, applicazione, insegnamento, comunicazione… della scien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fferenti tradizioni di pensiero (non soltanto tradizione analitic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onseguenze di questo ampliamen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ppaiono le nuove dimensioni della filosofia della scienza, ma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ccorre ripensare la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razionalità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della scienza: Rivolta neo-romantica o nuova razionalità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ccorre ripensare il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realism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lla scienza: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 che senso l’azione risponde di fronte al tribunale della verità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Sviluppo del cicl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I ora: 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Introduzione storica alla filosofia della scienza. Alla ricerca della certez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II ora: 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L’autonomia della scienza nella società contemporan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V ora: 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Scienza e razionalità prudenzi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V ora: 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Il realismo scientifico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 e la verità pra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VI ora: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 Il principio di precauzione nell’etica dell’amb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VII ora: 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Comunicazione scientifica: un approccio filosof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5T11:29:08Z</dcterms:created>
  <dc:creator>Filosofia</dc:creator>
  <dc:description/>
  <dc:language>en-US</dc:language>
  <cp:lastModifiedBy>Filosofia</cp:lastModifiedBy>
  <dcterms:modified xsi:type="dcterms:W3CDTF">2009-08-22T09:43:21Z</dcterms:modified>
  <cp:revision>15</cp:revision>
  <dc:subject/>
  <dc:title>Biocomplejidad</dc:title>
</cp:coreProperties>
</file>