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8A077-CAE1-4063-8A01-4C9A7C89D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50DEB-6C2B-4B83-8489-D86760090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05589-4246-40C7-AD0E-078DF54F3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7F2BA-56E8-4123-BEFD-B96F4BD86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41E32-5C25-40D6-A84A-F0018D272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5026B-D69A-4FEB-8693-AD48358C6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63142-676E-4825-80FA-36A6ABFE1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37AB5-DE8F-4826-983A-4FD41FCEE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F8115-4376-41B9-BE34-4F2013791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D681F-2A54-4B7E-A9BD-1CB61DF73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0D527-4E5D-4BF0-A1EA-E9A4AAEDE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8940-D3F5-45CA-8041-952054F6B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E51F9-7715-41AA-9013-B542E240B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203CC-DB3C-4727-B5F1-F8C4C8B02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C204C-53D9-46DD-86C7-D822A0758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C0F2F-C027-48D5-A5CC-9C347B0AA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A4F3E-74F3-45C1-9349-D9AC406C74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E4E21-7F85-4BBD-909E-5E9C385C9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2DAFD-7361-4741-8A35-5DB167DC5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7966-B1EA-48F3-8CED-EE52D51BE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0790B-84A2-4311-8E43-4F6E321D3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7699A-4A90-411C-902D-CC01CD590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1B0A4-1BD9-4836-B2B3-E5A112CF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5A383-7378-4C7C-ABEA-8452341DC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4DA6-B244-405D-B053-30FC785EC4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6B55-A071-463F-8E58-BAF92E8117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 principi di responsabilità e precauzione nell’etica dell’ambiente</a:t>
            </a:r>
            <a:endParaRPr b="0" lang="en-US" sz="40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lfredo Marcos</a:t>
            </a:r>
            <a:endParaRPr b="0" lang="en-US" sz="3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iversità di Valladolid (Spagna)</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arcos@fyl.uva.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troduzione</a:t>
            </a:r>
            <a:endParaRPr b="0" lang="en-US" sz="3000" spc="-1" strike="noStrike">
              <a:solidFill>
                <a:srgbClr val="000000"/>
              </a:solidFill>
              <a:latin typeface="Arial"/>
            </a:endParaRPr>
          </a:p>
        </p:txBody>
      </p:sp>
      <p:sp>
        <p:nvSpPr>
          <p:cNvPr id="98" name="PlaceHolder 2"/>
          <p:cNvSpPr>
            <a:spLocks noGrp="1"/>
          </p:cNvSpPr>
          <p:nvPr>
            <p:ph/>
          </p:nvPr>
        </p:nvSpPr>
        <p:spPr>
          <a:xfrm>
            <a:off x="806400" y="1485720"/>
            <a:ext cx="8229600" cy="51829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previsioni scientifiche sono fallibili, allora la previsione dovrà essere accompagnata da altri criteri che guidino l’agire in condizioni di incertezz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pporto della scienza è condizione necessaria ma non sufficiente per prendere delle decisioni ambientali</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mbrerebbero promettenti i principi di </a:t>
            </a:r>
            <a:r>
              <a:rPr b="0" i="1" lang="it-IT" sz="2000" spc="-1" strike="noStrike">
                <a:solidFill>
                  <a:srgbClr val="000000"/>
                </a:solidFill>
                <a:latin typeface="Arial"/>
              </a:rPr>
              <a:t>precauzione</a:t>
            </a:r>
            <a:r>
              <a:rPr b="0" lang="it-IT" sz="2000" spc="-1" strike="noStrike">
                <a:solidFill>
                  <a:srgbClr val="000000"/>
                </a:solidFill>
                <a:latin typeface="Arial"/>
              </a:rPr>
              <a:t> e di </a:t>
            </a:r>
            <a:r>
              <a:rPr b="0" i="1" lang="it-IT" sz="2000" spc="-1" strike="noStrike">
                <a:solidFill>
                  <a:srgbClr val="000000"/>
                </a:solidFill>
                <a:latin typeface="Arial"/>
              </a:rPr>
              <a:t>responsabilità</a:t>
            </a:r>
            <a:r>
              <a:rPr b="0" lang="it-IT" sz="2000" spc="-1" strike="noStrike">
                <a:solidFill>
                  <a:srgbClr val="000000"/>
                </a:solidFill>
                <a:latin typeface="Arial"/>
              </a:rPr>
              <a:t> come ingranaggio tra conoscenza incerta e agire arrischiat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fenderò la natura prudenziale di entrambi i principi</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due principi sono inter-correlati</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anno la medesima natura prudenziale</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essa origine nella consapevolezza dell’incertezza</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cauzione e responsabilità siano rispettivamente la versione giuridico-politica ed etico-politica del medesimo principio</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potrebbe intendere che il principio di precauzione sia orientato verso il futuro mentre quello di responsabilità lo sia verso il passato. Però la responsabilità del fatto agisce anche prima del fatto, proiettivamente, come precau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sponsabilità</a:t>
            </a:r>
            <a:endParaRPr b="0" lang="en-US" sz="3000" spc="-1" strike="noStrike">
              <a:solidFill>
                <a:srgbClr val="000000"/>
              </a:solidFill>
              <a:latin typeface="Arial"/>
            </a:endParaRPr>
          </a:p>
        </p:txBody>
      </p:sp>
      <p:sp>
        <p:nvSpPr>
          <p:cNvPr id="100" name="PlaceHolder 2"/>
          <p:cNvSpPr>
            <a:spLocks noGrp="1"/>
          </p:cNvSpPr>
          <p:nvPr>
            <p:ph/>
          </p:nvPr>
        </p:nvSpPr>
        <p:spPr>
          <a:xfrm>
            <a:off x="806400" y="1555560"/>
            <a:ext cx="8229600" cy="51130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tica ambientale di Hans Jonas è centrata sul principio di responsabilità: “Opera in modo tale che non si pongano in pericolo le condizioni della continuità indefinita dell’umanità sulla terr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asce da un’attitudine di modestia intellettuale, dal riconoscimento per cui la nostra capacità di previsione è cresciuta, però molto al di sotto di quanto è cresciuta la nostra capacità di intervento sul’ambien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a rinunciato alla certezza in favore del rispetto della realtà: “L’unica e paradossale sicurezza che esiste qui è l’insicurezza”. “L’oggettività deve venire dall’ogget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erca solamente di proteggere le condizioni della libertà e dell’assunzione futura delle responsabilità: “Ogni arte di governo è responsabile per la possibilità della politica futur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distante da qualsiasi deriva utopic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sponsabilità</a:t>
            </a:r>
            <a:endParaRPr b="0" lang="en-US" sz="3000" spc="-1" strike="noStrike">
              <a:solidFill>
                <a:srgbClr val="000000"/>
              </a:solidFill>
              <a:latin typeface="Arial"/>
            </a:endParaRPr>
          </a:p>
        </p:txBody>
      </p:sp>
      <p:sp>
        <p:nvSpPr>
          <p:cNvPr id="102" name="PlaceHolder 2"/>
          <p:cNvSpPr>
            <a:spLocks noGrp="1"/>
          </p:cNvSpPr>
          <p:nvPr>
            <p:ph/>
          </p:nvPr>
        </p:nvSpPr>
        <p:spPr>
          <a:xfrm>
            <a:off x="806400" y="1225440"/>
            <a:ext cx="8229600" cy="55166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definitiva, l’attitudine razionale consiste soprattutto in una protezione e promozione delle capacità creative che ci permetteranno di avere  l'adattamento ad un futuro in condizioni che non possiamo preved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bene è oggettivo però è sostanzialmente una possibilità che esige l’attualizzazione. Richiede l’apporto del soggetto responsabile. Il paradigma di questa situazione è il bambin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tica della responsabilità rifugge tanto del dovere formale, quanto della soggettività pien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rattere temporale e contingente del suo ogget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rattere globale della sua prospettiv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esponsabilità e la prudenza sono piuttosto generatori e protettori delle condizioni del bene globale, in un mondo incerto ma abitabi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ecauzione</a:t>
            </a:r>
            <a:endParaRPr b="0" lang="en-US" sz="3000" spc="-1" strike="noStrike">
              <a:solidFill>
                <a:srgbClr val="000000"/>
              </a:solidFill>
              <a:latin typeface="Arial"/>
            </a:endParaRPr>
          </a:p>
        </p:txBody>
      </p:sp>
      <p:sp>
        <p:nvSpPr>
          <p:cNvPr id="104" name="PlaceHolder 2"/>
          <p:cNvSpPr>
            <a:spLocks noGrp="1"/>
          </p:cNvSpPr>
          <p:nvPr>
            <p:ph/>
          </p:nvPr>
        </p:nvSpPr>
        <p:spPr>
          <a:xfrm>
            <a:off x="806400" y="2593440"/>
            <a:ext cx="8229600" cy="41482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eliberazione prudenziale costituiva l’ingranaggio tradizionale tra la conoscenza e l’agire</a:t>
            </a:r>
            <a:endParaRPr b="0" lang="en-US" sz="2400" spc="-1" strike="noStrike">
              <a:solidFill>
                <a:srgbClr val="000000"/>
              </a:solidFill>
              <a:latin typeface="Arial"/>
            </a:endParaRPr>
          </a:p>
          <a:p>
            <a:pPr lvl="1" marL="735480" indent="-28296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fallibile</a:t>
            </a:r>
            <a:endParaRPr b="0" lang="en-US" sz="2000" spc="-1" strike="noStrike">
              <a:solidFill>
                <a:srgbClr val="000000"/>
              </a:solidFill>
              <a:latin typeface="Arial"/>
            </a:endParaRPr>
          </a:p>
          <a:p>
            <a:pPr lvl="1" marL="735480" indent="-28296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esponsabilità dell’agire è in delegabile</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nuova scienza permetterebbero di generare metodi di decisione infallibili mediante i quali delegare la responsabilità dell’agir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ve ci troviamo oggi?</a:t>
            </a:r>
            <a:endParaRPr b="0" lang="en-US" sz="2400" spc="-1" strike="noStrike">
              <a:solidFill>
                <a:srgbClr val="000000"/>
              </a:solidFill>
              <a:latin typeface="Arial"/>
            </a:endParaRPr>
          </a:p>
          <a:p>
            <a:pPr lvl="1" marL="735480" indent="-28296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cietà dell’informazione, della conoscenza, società tecno scientifica</a:t>
            </a:r>
            <a:endParaRPr b="0" lang="en-US" sz="2000" spc="-1" strike="noStrike">
              <a:solidFill>
                <a:srgbClr val="000000"/>
              </a:solidFill>
              <a:latin typeface="Arial"/>
            </a:endParaRPr>
          </a:p>
          <a:p>
            <a:pPr lvl="1" marL="735480" indent="-28296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anche società dell’incertezza, società del rischio</a:t>
            </a:r>
            <a:endParaRPr b="0" lang="en-US" sz="20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ecauzione</a:t>
            </a:r>
            <a:endParaRPr b="0" lang="en-US" sz="3000" spc="-1" strike="noStrike">
              <a:solidFill>
                <a:srgbClr val="000000"/>
              </a:solidFill>
              <a:latin typeface="Arial"/>
            </a:endParaRPr>
          </a:p>
        </p:txBody>
      </p:sp>
      <p:sp>
        <p:nvSpPr>
          <p:cNvPr id="106" name="PlaceHolder 2"/>
          <p:cNvSpPr>
            <a:spLocks noGrp="1"/>
          </p:cNvSpPr>
          <p:nvPr>
            <p:ph/>
          </p:nvPr>
        </p:nvSpPr>
        <p:spPr>
          <a:xfrm>
            <a:off x="806400" y="1125360"/>
            <a:ext cx="8229600" cy="566136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piano ambientale come in altri si sono proposti principi di legittimazione dell’agire diversi dalla pura obbedienza ai dettami scientifici: principio di precauzion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incipio di precauzione entra in scena in Germania, durante gli anni 7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ensione spaziale, temporale e tematic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ssenso:</a:t>
            </a:r>
            <a:endParaRPr b="0" lang="en-US" sz="18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i presupposti che giustifichino la sua attivazione</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lle misure che possiamo legittimamente assumere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pretazioni radicali:</a:t>
            </a:r>
            <a:endParaRPr b="0" lang="en-US" sz="18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cietà della precauzione</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lire il principio di precauzione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pretazioni moderate:</a:t>
            </a:r>
            <a:endParaRPr b="0" lang="en-US" sz="18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cnica</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udenziale</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l principio di precauzione come principio prudenzia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ecauzione</a:t>
            </a:r>
            <a:endParaRPr b="0" lang="en-US" sz="3000" spc="-1" strike="noStrike">
              <a:solidFill>
                <a:srgbClr val="000000"/>
              </a:solidFill>
              <a:latin typeface="Arial"/>
            </a:endParaRPr>
          </a:p>
        </p:txBody>
      </p:sp>
      <p:sp>
        <p:nvSpPr>
          <p:cNvPr id="108" name="PlaceHolder 2"/>
          <p:cNvSpPr>
            <a:spLocks noGrp="1"/>
          </p:cNvSpPr>
          <p:nvPr>
            <p:ph/>
          </p:nvPr>
        </p:nvSpPr>
        <p:spPr>
          <a:xfrm>
            <a:off x="755640" y="1701360"/>
            <a:ext cx="8229600" cy="5040360"/>
          </a:xfrm>
          <a:prstGeom prst="rect">
            <a:avLst/>
          </a:prstGeom>
          <a:noFill/>
          <a:ln w="0">
            <a:noFill/>
          </a:ln>
        </p:spPr>
        <p:txBody>
          <a:bodyPr lIns="90000" rIns="90000" tIns="46800" bIns="46800" anchor="t">
            <a:normAutofit/>
          </a:bodyPr>
          <a:p>
            <a:pPr marL="343080" indent="-343080" algn="just">
              <a:lnSpc>
                <a:spcPct val="100000"/>
              </a:lnSpc>
              <a:spcBef>
                <a:spcPts val="601"/>
              </a:spcBef>
              <a:spcAft>
                <a:spcPts val="601"/>
              </a:spcAft>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2400" spc="-1" strike="noStrike">
                <a:solidFill>
                  <a:srgbClr val="000000"/>
                </a:solidFill>
                <a:latin typeface="Times New Roman"/>
              </a:rPr>
              <a:t>La convergenza tra precauzione, prevenzione e prudenza potrebbe giustificare il rimpiazzo del principio di precauzione con un principio di prudenza che comprendesse la precauzione e la previsione” (Kourilsky e Viney)</a:t>
            </a:r>
            <a:endParaRPr b="0" lang="en-US" sz="2400" spc="-1" strike="noStrike">
              <a:solidFill>
                <a:srgbClr val="000000"/>
              </a:solidFill>
              <a:latin typeface="Arial"/>
            </a:endParaRPr>
          </a:p>
          <a:p>
            <a:pPr marL="343080" indent="0" algn="just">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2400" spc="-1" strike="noStrike">
                <a:solidFill>
                  <a:srgbClr val="000000"/>
                </a:solidFill>
                <a:latin typeface="Times New Roman"/>
              </a:rPr>
              <a:t>Il principio di precauzione definisce </a:t>
            </a:r>
            <a:r>
              <a:rPr b="0" i="1" lang="it-IT" sz="2400" spc="-1" strike="noStrike">
                <a:solidFill>
                  <a:srgbClr val="000000"/>
                </a:solidFill>
                <a:latin typeface="Times New Roman"/>
              </a:rPr>
              <a:t>l’attitudine</a:t>
            </a:r>
            <a:r>
              <a:rPr b="0" lang="it-IT" sz="2400" spc="-1" strike="noStrike">
                <a:solidFill>
                  <a:srgbClr val="000000"/>
                </a:solidFill>
                <a:latin typeface="Times New Roman"/>
              </a:rPr>
              <a:t> che deve osservare ogni persona che prenda una decisione relativa ad una attività dalla quale si possa ragionevolmente supporre che derivi un grave pericolo per la salute o la sicurezza delle generazioni attuali o future, o per il proprio ambiente” (Kourilsky e Vine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11:29:08Z</dcterms:created>
  <dc:creator>Filosofia</dc:creator>
  <dc:description/>
  <dc:language>en-US</dc:language>
  <cp:lastModifiedBy>Filosofia</cp:lastModifiedBy>
  <dcterms:modified xsi:type="dcterms:W3CDTF">2009-09-21T15:31:06Z</dcterms:modified>
  <cp:revision>19</cp:revision>
  <dc:subject/>
  <dc:title>Biocomplejidad</dc:title>
</cp:coreProperties>
</file>