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883-6158-44CF-84BB-546A2596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AF9-874B-49C8-82AD-9BB0245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7D0-C8E3-46A4-8B76-0B30FD34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F12-8402-47B7-B30C-F6A17B6F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77FF-DE93-44A7-A6C2-3BDEACE8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8457-E472-42CC-8008-4417C684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BDA6-2C3E-4FD2-A1EE-8024B51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9E07-5363-47B3-995A-5EC398BB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9AF7-47BC-4148-BAAA-A6544F5B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396-636A-44BB-AA50-BFB23F22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B30F-6919-4B89-A1B1-DCBFF11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686-3EAD-40D5-9762-B35C64E3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992F-CFDD-424E-9973-57EB8542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3B56-868F-4FCC-8D6E-9CFFCE1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6AB7-E471-4F48-BF94-0FFFAAC9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CDBC-2A67-49A8-91C8-252886FD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7285-FE2F-420A-A86C-356DA89A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943-2269-4411-B1E0-3DB11A28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DC5-F42A-46D9-AFA6-0CC67CD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7D1-D2BD-450C-805A-FE053789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FC5-2C5A-40D2-8DB6-46AB49C7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BB1-BCD6-4A1E-96AE-A60B466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003-08E9-4099-9D62-2D8CD53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BA0-AA51-4DE1-BA23-2A9B92E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8CF7-1F1E-4CF4-AA43-AD7B85219D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1C16-467F-4E52-91FC-49C59D557C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problema del realismo ripensato: verità pratica e scoperta cre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lfredo Mar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tà di Valladolid (Spag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rcos@fyl.uva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64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i cerchiamo di tracciare un movimento dalla nozione aristotelica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rità pra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concetto peirceano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coperta cre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udenza aristotelica cerca il conseguimento dell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rità pr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nozion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rità pra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esposta nell’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tica Nicomache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I,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onosciuta la natura pratica della scienza, la verità che le corrisponde è l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rità pr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a nozione salva a un tempo il realismo  della scienza e il suo aspetto costruttivo, senza che l’uno minacci l’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azionalità prudenziale, ancorché non la garantisca, è orientata verso l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coperta cre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si è mostrata la relazione con il concetto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rità pra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a nozion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coperta crea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rova le proprie basi nell’ontologia e nell’antropologia aristotelica dell’atto e della potenza, e con ciò perde il proprio aspetto parados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verità pratic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secondo Aristot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4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bene della parte intellettiva e pratica – leggiamo i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è la verità che è in accordo con il desiderio retto, questa classe di verità è pratic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dimensioni: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concordanza tra desiderio e intelletto (per questo è virità) 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creazione di un bene oggettivo (per questo è pra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dice, poi, con ragione che realizzando azioni giuste uno diventa giusto […] e senza farle nessuno ha la minima possibilità di arrivare ad esser buon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llo che bisogna fare dopo averlo appreso, lo apprendiamo facendol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trebbe sembrare che la verità pratica si relazioni solo con gli interessi e le utilità dell’agire. Ma questo è così solo se dimentichiamo che all’interno dei più cospicui interessi dell’uomo c’è la stessa conosc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Verità pratica e scoperta creati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9605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natura è creativa, le persone sono nodi di spontaneità sotto la forma della libertà, sostanze progettate verso il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ppiamo poco delle radici della creatività, la prudenza ci dice solo – e anche questo senza garanzie – come proteggere e coltivare qui e ora le cond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noscenza ha anche un doppio aspetto: oggettivo e sogget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doppia natura della conoscenza umana, che scopre la realtà mentre la crea, si ritrova perfettamente nella  formula d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coperta cre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conto è aver una formula e altro è dotare tale formula di contenuto: un buon modo di venir a capo di questo problema consiste nel porre in relazione questa formula con il concetto aristotelico d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verità pr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Verità pratica e scoperta creati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ratteristiche generali della verità pr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guazione di due poli realizzata attraverso l’agire di un s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abilisce quando l’adeguazione non fa violenza a nessuno dei 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rge in un punto intermedio e migli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risultato è qualcosa di nuo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processo entrambi i poli mut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ò essere intesa come l’attualizzazione di una pot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a misura in cui questa potenza era reale, la verità pratica è ogg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a misura in cui l’attualizzazione della stessa richiede un agire umano, è cre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’è una regola automatica per la creazione o per il riconoscimento di questo tipo di ve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ò nonostante, l’arbitrarietà è esclusa: si tratta di un esercizio “determinato dalla ragione e da quella regola per la quale deciderà l’uomo prud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Verità pratica e scoperta creativa nella scienza e la tecn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400" y="19605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ndo scoprire è sostanzialmente eliminare, allora si può far con metodo. Quando scoprire è creare, allora non c’è alcun algoritmo pos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oprire è attualizzare, e con questo porre in chiaro e di fronte agli occhi alcuni fatti della realtà che vi giacevano in po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scoperte che l’uomo compie sono sue autentiche creazioni, poiché le potenze la propria natura non attualizza richiedono l’apporto creativo dell’uomo. Lo stesso vale per la scienza come per l’arte o la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Verità pratica e scoperta creativa nella scienza e la tecn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6400" y="19605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ttualizzare coniuga gli aspetti creativi e aletici, perché quel che si dice scoperto, lo sarà realmente se stava qui in po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scoperta genuina non è, dunque, l’eliminazione di nulla, ma è l’attualizzazione di possibilità re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natura attualizza potenze in modo naturale, l’arte e la tecnica imitano in questo la natura, non perché copino i suoi prodotti, ma perché agiscono come quella attualizzando po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la sci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Verità pratica e scoperta creativa nella scienza e la tecn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6400" y="22780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ello che la scienza scopre in modo creativo, attualizzando ciò che sta in potenza nelle cose stesse, è la somigli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scienza mette in forma di concetti, di leggi e di teorie la somiglianza che scop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somiglianza si coglie e si crea mediante il medesimo atto. La somiglianza potenziale è colta e attualizzata dalla 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i la verità dipende della creazione/attualizzazione del proprio ogg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somiglianza ha anche una dimensione futura, la trasformazione effettiva di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ques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quell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 Per questo la scienza in alcuni casi ha applic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teoria aristotelica dell’agire ci permette di integrare conoscenza e ag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i permette di vedere l’essere umano come un tutto unita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400" y="1988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e ancora qualcosa di simile a un metodo della scoper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sta, in effetti: l’essere prudente e l’essere cre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udenza consiglia di mantener sempre una mente e un’attitudine ap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 stesso modo la prudenza raccomanda di coltivare la virtù come condizione di possibilità della libertà e in ultima istanza della crea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udenza raccomanda anche di coltivare il proprio sé che non ci faccia solo prudenti, ma anche cre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a è la parte propriamente creativa che dovrà stare incorporata alla persona st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1:29:08Z</dcterms:created>
  <dc:creator>Filosofia</dc:creator>
  <dc:description/>
  <dc:language>en-US</dc:language>
  <cp:lastModifiedBy>Filosofia</cp:lastModifiedBy>
  <dcterms:modified xsi:type="dcterms:W3CDTF">2009-08-22T11:35:18Z</dcterms:modified>
  <cp:revision>19</cp:revision>
  <dc:subject/>
  <dc:title>Biocomplejidad</dc:title>
</cp:coreProperties>
</file>