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459C-E6C9-4F57-9E5D-97FB038C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4D5A-059D-404C-9221-A83A449A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942C-D8E0-45AD-9F3D-96D0C639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B8A8-04BD-4EFF-B1DA-8977FEB0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6CF1-2651-4779-B591-5FC6664C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A129-4A50-4A57-A2B9-441AB5F9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3A20-B8DF-4BB3-952B-745635B3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8E25-CF54-436F-8F53-BE93AFFE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0336-2FE2-4C88-96DB-7727DE0E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B3DA-7776-4EE9-98BE-699FD5C7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CEA8-3F98-48DB-90D0-90D61A3B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9C0D-4A2A-4F9D-B58C-322AF47F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7090-1512-4865-925E-4DB64019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8577-90D6-43E9-BF07-BA018233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0B12-BDBB-4F5D-A9A8-F7B81F3B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5B3F-7558-421F-B492-61C31F26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EC94-6D47-41B7-B230-805F168B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A15B-1602-42BF-9C61-58C2D11B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FB9E-0BA8-435F-83D3-8AF8D5D1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4F63-589D-4C1B-A5F0-ABFA3F21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0A44-407A-4DC2-861A-8142DB21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7D9C-0922-4D0A-9807-8CE9ADE3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69DE-F91C-43CD-8C18-0E50D610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7600-4285-4E32-9751-3FF1DF1D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7116-80C1-4E6A-9167-F19C82A2D0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3AEF-7B58-49DB-9E30-56486E956E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municazione scientifica: un approccio filoso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lfredo Mar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tà di Valladolid (Spag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arcos@fyl.uva.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6400" y="1988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comunicazione della tecno scienza è un fenomeno multi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molto tempo si è intesa sotto il “modello di defici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cuni passi verso un nuovo modello sistemico per la comunicazione della scienz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Contesto attua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Funzioni del sistema di comunicazione della scienza dato il attuale contes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Dati questi funzioni, struttura ed elementi della comunicazione della scienz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Dibattito: È legittimo un giornalismo scientifico… d’opinion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Contesto attu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06400" y="1125360"/>
            <a:ext cx="8229600" cy="56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alla seconda guerra mondiale sono cambiate molte cos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nella scienza e nella tecnologia,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nella nostra società 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nella riflessione filosofica sulla sci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La scienza si è chiaramente trasformata in un fatto soc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la società diventa tecno-scientica e vuole essere democratica; società più aperte e glob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La filosofia della scienza ha scoperto gli aspetti pragmatici della scienza e l’inevitabile incerte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lque conseguen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ggi la comunicazione scientifica è un pezzo chiave e imprescindibile per il corretto funzionamento della nostra società e ha effetti in ogni direzione, non solo sul pubblico, ma anche sulla scienza, la tecnologia e il sistema poli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cludere tra i propri contenuti non solo i risultati e i successi, ma anche informazioni sui processi scientifici e tecnologici, i metodi, gli errori della scienza e della tecnica, sugli effetti sulla società e la natura, applicazioni e ris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informazione sulla scienza e la tecnologia deve prestare particolare attenzione alla qualificazione della notizia relativamente al suo grado d’incerte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Le funzioni della comunicazione della scienza nel contesto attu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64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comunicazione della scienza come un sistema aperto, adattativo e soc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i costitutiv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unicare informazioni relative alla sci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tribuire alla formazione (di opinione) scientifica della cittadin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nsioni interne tra obiettivi legittim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uadagnare pubblico a breve termine / guadagnare credibilità a lungo ter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iarezza espositiva / fedeltà verso la f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erazi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ssioni este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put (richieste, appoggi e ostacoli) / output (informazione scientifica e tecnologica, valorizzazione della stessa, opinione, formazione del cittadino, diffusione di certe immagini della realtà, educazione in materia ambientale e di salute, intrattenimento tecnoscienfico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eedback (media-scienza-media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struttura della comunicazione della scienza</a:t>
            </a: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64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mittente: divulgatore / giornal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ca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assici: stampa, radio, 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uovi: internet, telefonia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giornalistici: musei, cinema, letteratura videogiochi, documentari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messag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a retorica multimediale prop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lsiasi genere giornali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ricettore: occorre adattare il messaggio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do di conoscenza pre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uppi differenti (anche scienziati, politici e giornalis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conten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sultati e succes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assi scientifica, indagine come agire umano e sociale (il giornalista in laborato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inanziamento, interessi, effetti (benefici e dannos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s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getti con esito positivo, e quelli nei quali si è investito tempo e fatica ma che non hanno prodotto risultati apprezzab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litica scienti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unità scientifiche in quanto comunità um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Giornalismo scientifico… di opinion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06400" y="119808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pinioni sulla scienza per quel che concerne la sua pratica con ripercussioni sociali, sulle politiche scientifiche o sulle applicazioni tecnolog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pinioni anche sul contenuto stesso della scienz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’inversione scandalosa tra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epistem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dox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a posizione filosofica relativis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redo sia meglio intraprendere la difesa del giornalismo scientifico di opinione da un’altra posizione filosofica: la tradizione fallibi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ndo sono presenti, l’onestà intellettuale, lo sforzo nel lavoro, il rigore, la volontà ferma della verità ci sono gli elementi che legittimano e garantiscono le condizioni di razionalità tanto al discorso scientifico quanto a quello giornali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a dove può venire questa critica giornalistica al contenuto della scienz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lle opinioni degli altri scienziati (pluralità di fon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dal comune senso cri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tinuità tra il senso comune e la scienza, continuità della ragione u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1:29:08Z</dcterms:created>
  <dc:creator>Filosofia</dc:creator>
  <dc:description/>
  <dc:language>en-US</dc:language>
  <cp:lastModifiedBy>Filosofia</cp:lastModifiedBy>
  <dcterms:modified xsi:type="dcterms:W3CDTF">2009-09-13T15:51:21Z</dcterms:modified>
  <cp:revision>22</cp:revision>
  <dc:subject/>
  <dc:title>Biocomplejidad</dc:title>
</cp:coreProperties>
</file>