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3CC-D347-478B-B92D-33686F4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7A7-A81E-4D7B-9295-91CF7CD2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B2C-BAEB-4C41-829C-3AE68DB0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602-E1D9-448B-BD31-C73471F8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2862-5AAB-4E14-93C6-BCCF5757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2B74-8B72-4734-AC1D-456C4C87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58C2-D4CA-4688-A713-07288E9C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2E3B-7882-4BA0-8E61-A6FF01E1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5DB1-94D4-4409-BAC4-246EA98E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9E8B-ADE5-4422-9608-6A8DD687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3ED9-5527-4166-942F-69DB9D1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7B6-57EC-490C-B5B6-1CF207FD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4618-91FB-4E5F-9AE5-E68C9F0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6EB7-2D1C-488B-928C-85E18C4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DFC8-96FC-4512-9975-D7E57B41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445-FFA7-43B8-B632-40E70A9B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190F-ED04-4096-9E59-606BE867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BD4-9733-4D48-BFBB-520DB441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30F-279D-4D69-BFD4-9EAF8995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C74-CF83-4BE0-80A9-2B22E17C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3D5-658D-4882-ACD0-D5760415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871-5015-4C54-BC0F-69D8BC8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EF5-2DB6-45F9-9729-EEADDEE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1AF-11E8-4BEC-BFDD-563631A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D363-C16D-47E7-A402-02FE89AE6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FF44-B8E0-4140-90CB-95D0BC9493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cienza e razionalità pruden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lfredo Mar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tà di Valladolid (Spag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rcos@fyl.uva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udenza e scienza attuale: il fallibilismo (Peirce, Popp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eguenze pratiche del fallibilismo-prudenza: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not block the way of inqui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Pei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e antropologiche e ontologiche della prudenza-fallibilis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altà non sottomessa al concett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anche caotic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 aperta all’intellezione u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uralità delle sosta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tenzia e a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uomo come “Intelligenza desiderante o desiderio intelligente” /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animale, sociale e razion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zoon politikon log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9875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gione scient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ertezza come valore epistemico superi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Ragione umana = metodo scientif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Reazione irraziona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gione prudenz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Verità como valore epistemico superi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Ragione umana =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phronesi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(Aristote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udenza e scienza: il fallibilismo (Peirce, Popp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ertezza e ragion pra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0920" y="2852640"/>
            <a:ext cx="8497800" cy="2554560"/>
            <a:chOff x="250920" y="2852640"/>
            <a:chExt cx="8497800" cy="2554560"/>
          </a:xfrm>
        </p:grpSpPr>
        <p:sp>
          <p:nvSpPr>
            <p:cNvPr id="101" name=""/>
            <p:cNvSpPr/>
            <p:nvPr/>
          </p:nvSpPr>
          <p:spPr>
            <a:xfrm>
              <a:off x="250920" y="2852640"/>
              <a:ext cx="8497800" cy="25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1320" y="3051000"/>
              <a:ext cx="1202760" cy="12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icerca della certez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2200" y="3094920"/>
              <a:ext cx="1280880" cy="85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Metodo scienti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31200" y="3094920"/>
              <a:ext cx="2280600" cy="171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iduzione metodologica dell’azione umana a puro fatto fis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05760" y="2962800"/>
              <a:ext cx="3186720" cy="101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Irrazionalità dell’azione um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0000" y="4614480"/>
              <a:ext cx="2254320" cy="52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cienza come 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61680" y="4173840"/>
              <a:ext cx="2483640" cy="121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rrazionalità della scien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37840" y="2896560"/>
              <a:ext cx="601920" cy="263880"/>
            </a:xfrm>
            <a:custGeom>
              <a:avLst/>
              <a:gdLst>
                <a:gd name="textAreaLeft" fmla="*/ 105120 w 601920"/>
                <a:gd name="textAreaRight" fmla="*/ 436320 w 601920"/>
                <a:gd name="textAreaTop" fmla="*/ 35280 h 263880"/>
                <a:gd name="textAreaBottom" fmla="*/ 228600 h 26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34560" y="2896560"/>
              <a:ext cx="601920" cy="263880"/>
            </a:xfrm>
            <a:custGeom>
              <a:avLst/>
              <a:gdLst>
                <a:gd name="textAreaLeft" fmla="*/ 105120 w 601920"/>
                <a:gd name="textAreaRight" fmla="*/ 436320 w 601920"/>
                <a:gd name="textAreaTop" fmla="*/ 35280 h 263880"/>
                <a:gd name="textAreaBottom" fmla="*/ 228600 h 26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83840" y="2940840"/>
              <a:ext cx="601920" cy="264240"/>
            </a:xfrm>
            <a:custGeom>
              <a:avLst/>
              <a:gdLst>
                <a:gd name="textAreaLeft" fmla="*/ 105120 w 601920"/>
                <a:gd name="textAreaRight" fmla="*/ 436320 w 601920"/>
                <a:gd name="textAreaTop" fmla="*/ 35280 h 264240"/>
                <a:gd name="textAreaBottom" fmla="*/ 22896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2640" y="4922640"/>
              <a:ext cx="4194720" cy="330120"/>
            </a:xfrm>
            <a:prstGeom prst="rightArrow">
              <a:avLst>
                <a:gd name="adj1" fmla="val 50000"/>
                <a:gd name="adj2" fmla="val 317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3080" y="3601080"/>
              <a:ext cx="218520" cy="694440"/>
            </a:xfrm>
            <a:prstGeom prst="downArrow">
              <a:avLst>
                <a:gd name="adj1" fmla="val 50000"/>
                <a:gd name="adj2" fmla="val 794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3360" y="2095560"/>
            <a:ext cx="59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turalizzazione della ragion pratica (Hume e olt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Phronesi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in Aristot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6400" y="1844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hronesis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“disposizione pratica accompagnata da ragione verace intorno ai beni umani” (Aristot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Dato che è una disposizione (</a:t>
            </a:r>
            <a:r>
              <a:rPr b="0" i="1" lang="it-IT" sz="1900" spc="-1" strike="noStrike">
                <a:solidFill>
                  <a:srgbClr val="000000"/>
                </a:solidFill>
                <a:latin typeface="Arial"/>
              </a:rPr>
              <a:t>hexis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), si distinguerà dalla scienza (</a:t>
            </a:r>
            <a:r>
              <a:rPr b="0" i="1" lang="it-IT" sz="1900" spc="-1" strike="noStrike">
                <a:solidFill>
                  <a:srgbClr val="000000"/>
                </a:solidFill>
                <a:latin typeface="Arial"/>
              </a:rPr>
              <a:t>epistém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) poiché la prudenza sarà un sapere connesso con l’azione uma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In quanto pratica (</a:t>
            </a:r>
            <a:r>
              <a:rPr b="0" i="1" lang="it-IT" sz="1900" spc="-1" strike="noStrike">
                <a:solidFill>
                  <a:srgbClr val="000000"/>
                </a:solidFill>
                <a:latin typeface="Arial"/>
              </a:rPr>
              <a:t>praktik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), il suo risultato sarà un’azione, non un oggetto; questo la distingue dall’arte e dalla tecnica (</a:t>
            </a:r>
            <a:r>
              <a:rPr b="0" i="1" lang="it-IT" sz="1900" spc="-1" strike="noStrike">
                <a:solidFill>
                  <a:srgbClr val="000000"/>
                </a:solidFill>
                <a:latin typeface="Arial"/>
              </a:rPr>
              <a:t>tekhn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L’esigenza di razionalità e verità (</a:t>
            </a:r>
            <a:r>
              <a:rPr b="0" i="1" lang="it-IT" sz="1900" spc="-1" strike="noStrike">
                <a:solidFill>
                  <a:srgbClr val="000000"/>
                </a:solidFill>
                <a:latin typeface="Arial"/>
              </a:rPr>
              <a:t>metà lògoi alèth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) la distingue dalle virtù morali e la colloca tra le virtù intellettual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Da ultimo va rilevato che si cerca il bene e il male per l’uomo, e non si cerca il bene e il male in astratto, distinguendo la prudenza dalla sapienza (</a:t>
            </a:r>
            <a:r>
              <a:rPr b="0" i="1" lang="it-IT" sz="1900" spc="-1" strike="noStrike">
                <a:solidFill>
                  <a:srgbClr val="000000"/>
                </a:solidFill>
                <a:latin typeface="Arial"/>
              </a:rPr>
              <a:t>sophia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Phronesi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in Aristot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64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iamo comprenderne la sua natura solo considerando uomini prudenti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si devono trascurare i detti e le opinioni degli esperti, anziani e prudenti, rispetto alle dimostrazioni, poiché l’esperienza ha dato loro la capacità di vedere, e per questo vedono correttament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apienza e prudenza: si cerca di “avere entrambe, o preferibilmente la prudenz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rudenza è una virtù, e virtù è: “una disposizione del proponimento, consistente nella medietà rispetto a noi stessi, definita dalla ragione e come l’uomo prudente la determinerebb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’è un obiettivo mirando al quale chi possiede la ragione tende o rilascia la corda del proprio arco, e c’è una determinata misura che definisce la medietà, che noi diciamo intermedia tra l’eccesso e il difetto, perché conforme alla retta ragione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katà tòn orthòn lòg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giovani possono essere geometri, matematici o sapienti in materie del genere, ma non si pensa che un giovane sia pruente. Il motivo è che la prudenza riguarda anche i particolari, i quali diventano noti in base all’esperienz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impossibile essere prudente senza essere buoni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partendo dall’individuale che si arriva all’universa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lligenza desiderante o desiderio intelligente, questo genere di principio è l’uom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Phronesi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in Aristot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38320" y="1692360"/>
            <a:ext cx="7537320" cy="4761000"/>
            <a:chOff x="1138320" y="1692360"/>
            <a:chExt cx="7537320" cy="4761000"/>
          </a:xfrm>
        </p:grpSpPr>
        <p:sp>
          <p:nvSpPr>
            <p:cNvPr id="120" name=""/>
            <p:cNvSpPr/>
            <p:nvPr/>
          </p:nvSpPr>
          <p:spPr>
            <a:xfrm>
              <a:off x="1138320" y="1692360"/>
              <a:ext cx="7537320" cy="47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417320" y="1862280"/>
              <a:ext cx="6978960" cy="4363920"/>
              <a:chOff x="1417320" y="1862280"/>
              <a:chExt cx="6978960" cy="4363920"/>
            </a:xfrm>
          </p:grpSpPr>
          <p:sp>
            <p:nvSpPr>
              <p:cNvPr id="122" name=""/>
              <p:cNvSpPr/>
              <p:nvPr/>
            </p:nvSpPr>
            <p:spPr>
              <a:xfrm>
                <a:off x="2813040" y="2239920"/>
                <a:ext cx="662040" cy="1124640"/>
              </a:xfrm>
              <a:custGeom>
                <a:avLst/>
                <a:gdLst>
                  <a:gd name="textAreaLeft" fmla="*/ 88560 w 662040"/>
                  <a:gd name="textAreaRight" fmla="*/ 573480 w 662040"/>
                  <a:gd name="textAreaTop" fmla="*/ 196560 h 1124640"/>
                  <a:gd name="textAreaBottom" fmla="*/ 815400 h 112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0800000">
                <a:off x="6466320" y="3751200"/>
                <a:ext cx="663480" cy="1124640"/>
              </a:xfrm>
              <a:custGeom>
                <a:avLst/>
                <a:gdLst>
                  <a:gd name="textAreaLeft" fmla="*/ 88920 w 663480"/>
                  <a:gd name="textAreaRight" fmla="*/ 574560 w 663480"/>
                  <a:gd name="textAreaTop" fmla="*/ 196560 h 1124640"/>
                  <a:gd name="textAreaBottom" fmla="*/ 815400 h 112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0800000">
                <a:off x="6512760" y="2183040"/>
                <a:ext cx="662040" cy="1124640"/>
              </a:xfrm>
              <a:custGeom>
                <a:avLst/>
                <a:gdLst>
                  <a:gd name="textAreaLeft" fmla="*/ 88560 w 662040"/>
                  <a:gd name="textAreaRight" fmla="*/ 573480 w 662040"/>
                  <a:gd name="textAreaTop" fmla="*/ 196560 h 1124640"/>
                  <a:gd name="textAreaBottom" fmla="*/ 815400 h 112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13040" y="3826800"/>
                <a:ext cx="662040" cy="1124640"/>
              </a:xfrm>
              <a:custGeom>
                <a:avLst/>
                <a:gdLst>
                  <a:gd name="textAreaLeft" fmla="*/ 88560 w 662040"/>
                  <a:gd name="textAreaRight" fmla="*/ 573480 w 662040"/>
                  <a:gd name="textAreaTop" fmla="*/ 196560 h 1124640"/>
                  <a:gd name="textAreaBottom" fmla="*/ 815400 h 112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49400" y="2919960"/>
                <a:ext cx="2580480" cy="122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rone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03960" y="4552200"/>
                <a:ext cx="2630160" cy="581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Virtù Moral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34920" y="1862280"/>
                <a:ext cx="2763360" cy="81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sapienza (scienza+intelletto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17320" y="5644440"/>
                <a:ext cx="6978960" cy="58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La prudenza come mediazione tra scienza ed etic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udenza e scienza attuale: il fallibilismo (Peirce, Popp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6400" y="1844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llibilismo: più che un metodo, un’attitu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opper: “Il metodo scientifico non esiste: 1) non esiste un metodo per scoprire una teoria scientifica. 2) Non esiste metodo per accertarsi della verità di un’ipotesi scientifica 3) Non esiste metodo per verificare se un’ipotesi sia probabile o probabilmente veridica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eirce:“l’infallibilità nelle materie scientifiche mi sembra irresistibilmente comica”. “Le persone che conoscono la scienza principalmente attraverso i suoi risultati – vale a dire che non hanno alcuna conoscenza della scienza come agire – sono propense ad acquisire l’idea che l’universo sia una volta per tutte spiegato nelle sue caratteristiche principali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udenza e scienza attuale: il fallibilismo (Peirce, Popp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64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llibilismo: scetticismo della certezza, ma non della v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si tratta di dubitare di tu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per: “Un’attitudine che detesto è quella di filosofare senza un problema reale […] La discussione razionale non può svolgersi come un mero gioco per ammazzare il tempo. Non può esistere senza problemi reali, senza la ricerca della verità oggettiva” (Pop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irce: “Descartes è il padre della filosofia moderna […] insegna che la filosofia debba cominciare con il dubbio universale […] mi pare che la scienza e la logica moderne esigano che noi ci appoggiamo su di una piattaforma molto diversa da questa […] non possiamo cominciare con un dubbio totale […] E’ vero che una persona può, nel corso dei propri studi, incontrare una ragione per dubitare di ciò che cominciò a credere; ma in questo caso dubita perché ha una ragione positiva per farlo, e non in virtù della massima cartesiana. Non pretendiamo di dubitare in filosofia di ciò di cui non dubitiamo nei nostri cuo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udenza e scienza attuale: il fallibilismo (Peirce, Popp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400" y="1844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udenza e fallibilismo sono entrambe attitudini, ma sono la stessa attitud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 prudenza è intellettuale e pratica. Lo è anche il fallibilism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Vi è tuttavia qualche differenza: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) Aristotele non concepì chiaramente la prudenza come una guida per il sapere scientifico;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) il fallibilismo odierno dipende da un concetto di scienza che non poteva avere Aristotele;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) e da un’esperienza storica che Aristotele non poteva avere, l’esperienza dello sviluppo della scienza moder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i conseguenza: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l fallibilismo verrà ad essere la versione attuale della prudenza, la prudenza tradotta nei termini del dibattito attuale, affilata dall’esperienza che abbiamo oggi, ed è anche la forma propriamente attuale della rag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1:29:08Z</dcterms:created>
  <dc:creator>Filosofia</dc:creator>
  <dc:description/>
  <dc:language>en-US</dc:language>
  <cp:lastModifiedBy>Filosofia</cp:lastModifiedBy>
  <dcterms:modified xsi:type="dcterms:W3CDTF">2009-09-21T08:33:44Z</dcterms:modified>
  <cp:revision>27</cp:revision>
  <dc:subject/>
  <dc:title>Biocomplejidad</dc:title>
</cp:coreProperties>
</file>